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692C-C892-40A1-977D-6D437E1EA6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C62F-A2F7-4F51-B060-799E1324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9107-4984-45A9-85EA-D197E207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6BF7-2116-48E7-BD20-72D277D3DD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B32B-5CEB-4BA0-AADB-D81F5252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DBE-0235-4A7D-AF8D-6EACE1AB7F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145-2204-4037-AFD1-3EEBCFAF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6A8E-4D53-460B-AC39-8ECD1391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0096-AFF9-4149-9323-1BB1C5C3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CFA1-EBE3-49C8-8C20-08370A72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41FB-2456-4AF8-B013-149F4F7E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2DE-206E-46E9-98D0-01AB9F56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F6F-692B-4F2A-896A-ED3036B8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85DD-F6CE-4BE5-A41C-38BD67CA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B6A-8C96-474A-B539-C2924453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A04-0A40-4326-BBBA-9DE8C5CA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887A-C05F-47AD-815C-82E959E9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78D-682D-4F6A-B2B2-1D521294A8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2F54C3-5C05-48B0-AE3F-B481903C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8B1C73-7815-4B0B-A74D-93E83649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771225-458D-4DB9-86F6-3E115FA3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B399-07F7-4264-A76D-742038F4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FCABED-D204-45CE-B6AD-278075C9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853518-80BE-489A-937E-49D1B35B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0A2A1F-EBDA-4130-AC56-1BEC09E7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9EB190-8D8C-4117-9EF5-BEF520C7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DAB94C-DDAD-451D-A298-DF75F7DD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04E150-4B60-4694-BE1F-019F3BD8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FE25D6-DAE5-4AF7-9737-849570C3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C60DA0-687F-4835-AC50-CFAF4D00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03485A-2044-48EA-9CEF-F6D31AC9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A6C9-F547-420C-A15F-D29A4EEB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EAA1-46D9-4682-863F-2F002E81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055B-45F5-4308-ABD5-75C84AC1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CC85-7361-4647-8E41-A9908965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693D-89A4-4324-82CA-462CB24A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199D-BCD5-4BB2-8927-F90320A115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5E0F-4304-4F27-A674-BCBB06DC615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2A2C-73DE-44EB-AD89-42DC7529AA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021F-0F9A-4C7D-95C9-21B5346B0EA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七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老年痴呆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记忆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阶段表现为丧失近期记忆，患者不能记忆当天发生的日常琐事，记不得刚做过的事或讲过的话，忘记少用的名词、约会或贵重物件放于何处，易忘记不常用的名字，常重复发问，以前熟悉的名字易搞混，词汇减少，远事记忆可相对保留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673200" y="981000"/>
            <a:ext cx="74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知识链接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宋体"/>
              </a:rPr>
              <a:t>美国前总统里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美国前总统里根是个最典型的例子。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代初，里根就有记忆下降的征兆，比如忘记刚说过的话。有次聊天中他女儿说起里根演过一个电影角色，里根却怎么也想不起来。不出一年，里根就被诊断为老年性痴呆，可已过了疾病的早期。最后，他除了认识夫人南希外，谁也不认识了，甚至不记得自己担任过两届美国总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语言障碍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词汇量减少，谈话中因找词困难而不连贯，逐渐语无伦次，理解力差，不能参与交谈，最后只能发出别人不能理解的声音，甚至缄默，书写困难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空间技能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失去大部分认识能力，如学习、判断及思考能力。接受新资讯有困难；对时间及方向感觉混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失用和失认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面容认知不能者，不认识亲人和熟悉朋友的面容。患者甚至不能认出和写出自己的名字。自我认知受损，产生镜子征，即：患者坐在镜子前与镜子中自己的影像说话，甚至问自己的影像是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 判断、计算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出现判断力差、概括能力丧失。简单的加减法运算困难，严重者甚至不认识数字和算术符号，也不能回答检查者伸出几个手指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精神功能性精神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表现为坐立不安、多疑、易激动，淡漠、焦虑、抑郁，可出现妄想、错觉、幻觉、伤人毁物行为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自理能力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老年痴呆患者记忆力、定向力和判断力障碍，日常起居生活、自我照顾能力减退。轻者可忘记服药、进食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外出时自己不能回家；重者则不懂穿衣、如厕和洗浴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221436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基本原则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发现、早期干预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后效果评价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一）痴呆筛选量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简易精神量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mini -mental state examination,MMSE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该量表最高得分为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分数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为正常，分数＜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为认知功能障碍。痴呆严重程度分级方法：轻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≥2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中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 1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重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≤9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具体内容参见第三章康复护理评价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哈金斯基缺血指数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Huggins ischemia Index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HIS) 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可区分两种主要类型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和（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ulti-infarct dementia,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）的痴呆。总分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8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≥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≤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混合型痴呆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6448-C9ED-42CF-8A76-2B7FCDEB779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611280" y="2060640"/>
            <a:ext cx="79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临床痴呆评定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clinical dementia rating, CDR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评估痴呆的严重程度，该量表从记忆力、定向力、判断力和解决问题能力、社会事务、家庭和爱好及个人料理等六项内容进行评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长谷川简易痴呆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Hastgawa Dementia Scale, HDS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长谷川痴呆量表简单实用，我国学者根据我国国情，按文化程度将其评分标准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50920" y="1773360"/>
            <a:ext cx="871524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二）记忆力、注意力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记忆力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韦氏记忆量表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Wechsler Memory Scale WM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词语流畅性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Verbal Fluency Test, VF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注意力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连线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Trail Marking Test,TM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Stroop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色词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Stroop Color Word Test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209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三）老年痴呆的身体功能评估量表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日常生活能力量表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(Activity of Daily Living Scale, ADL)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是较常用的评估老年痴呆患者身体功能的量表。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共有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4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，包括两部分内容：一是躯体生活自理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上厕所、进食、穿衣、梳洗、行走和洗澡；二是工具性日常生活能力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打电话、购物、备餐、做家务、洗衣、使用交通工具、服药和自理经济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"/>
          <p:cNvSpPr/>
          <p:nvPr/>
        </p:nvSpPr>
        <p:spPr>
          <a:xfrm>
            <a:off x="684360" y="1268280"/>
            <a:ext cx="799128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6-7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服用氟哌啶醇恐惧、紧张、失眠、出汗症状明显好转，但近半年来记忆力减退，吃完饭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钟后问及饭菜不能回答，去医院看病因不认识路不能回家，说话经常忘词，对家务活动漠不关心。头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提示脑室扩大和皮质萎缩、脑沟变宽。脑电图可见非特异性的弥漫性慢波，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α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波节律变慢、波幅变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应介入哪些康复护理措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6563-874D-445B-A6A9-B3BE5A88B84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490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痴呆病程长，进展缓慢，约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个月至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年。老年性痴呆康复的目的不是回归社会，而是控制症状和延缓发展进程，最大限度地维持残疾功能，延长生命，提高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患者的生活质量。老年痴呆患者的康复护理，一般是围绕着记忆训练、注意力训练以及其他认知功能的训练等环节进行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5E41-4C7C-4037-B15C-0D77FB64F58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5689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个基本原则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用痴呆者的残存能力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维持和促进身体功能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重视痴呆者的自我决定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CA94-0262-4E0A-BBC2-0D878CB5245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反复训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制订生活作息时间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动安排：看电视、玩扑克、下跳棋、玩智力拼图、看电视、听音乐、看报纸、读杂志等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928800" y="1928880"/>
            <a:ext cx="53719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一）记忆功能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395280" y="549360"/>
            <a:ext cx="8137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知识链接</a:t>
            </a:r>
            <a:r>
              <a:rPr b="1" i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缅怀治疗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缅怀治疗是利用患者所拥有的记忆做媒介，去鼓励患者与人沟通及交往，是老年痴呆患者记忆训练的有效方法。缅怀可有多种形式，包括个别回想、与人面谈、小组分享、展览及话剧等。理论基础源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Erikson(1950)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对人生发展过程的理论。人到晚年，回忆往事是一个很自然的过程，如能借此过程解决一些从未能解决的问题和矛盾，整个人生便能达致整合，若未成功，一生变得“绝望”。一般缅怀活动，会柔和开心与不快的回忆，是两者有机结合，从而增进老年痴呆患者的生活满足感，减低抑郁，改善生活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D865-BA4A-461C-BCC4-B22A34C7DB2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04440" y="2644560"/>
            <a:ext cx="4070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时间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地点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人物认知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928800" y="1928880"/>
            <a:ext cx="486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二）定向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DC9F-5FA0-40A1-BB55-11434C257C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28440" y="2708280"/>
            <a:ext cx="7197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对不同原因引起的语言障碍采用不同的训练方式，如运动性失语，应着重给患者示范口形，面对面地教，循序渐进反复练习。对命名性失语患者，应让患者有意识地反复说出事物的名称，强化记忆，坚持听、说、读、写训练。还可进行口语对话、唇及口型训练、物品命名、词句和书写、计算、记忆等训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928800" y="1901880"/>
            <a:ext cx="76057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三）语言能力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1197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学习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3452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识记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陈述老年期痴呆的概念、主要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理解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解释老年期痴呆分类、康复护理评估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运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针对老年期痴呆患者的功能障碍制订康复护理计划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440C-AAE5-46B3-A499-B47FC4AD372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FBD2-E6BE-41A3-904B-3604259FDD8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在日常生活中，根据功能状况做一些洗碗、扫地、递东西、买东西等简单家务，使他们在头脑中建立新的条件反射，以维持各种功能。经常陪同患者去散步，呼吸室外新鲜空气，练习打太极拳，观赏盆景花鸟，并根据患者的兴趣爱好，安排听音乐、看电视、下象棋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930240" y="1928880"/>
            <a:ext cx="64501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四）日常生活活动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1042920" y="1773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对早期痴呆患者要尽可能帮助其保持日常生活习惯和卫生习惯，起居、穿衣、刷牙、洗脸等，尽可能让患者自己完成。对后期病情较重的患者，在限制其活动的同时，要根据病情做好肢体的被动运动，保持肢体的正常功能，防止关节畸形和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0EFB-6CEF-4128-B7C4-B15AC433BDA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药物治疗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只是老年性痴呆症防治措施中的一个环节。对轻度痴呆症患者，这些药物能在一定程度上改善痴呆症状或延缓痴呆进展。临床常用药物有改善脑代谢药（海得琴）、改善认知功能药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Ch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、神经保护剂（维生素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等。近年来在神经肽、神经生长因子和中草药等方面的研究也较多，并取得了一定程度的进展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900000" y="1917720"/>
            <a:ext cx="604836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五）药物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5152-61D5-4EAD-B20D-6ED7664E4DD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一）生活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日常生活用品放置位置固定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不断强化患者对色彩、食物的辨认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评估患者的残存功能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对精神兴奋型或狂躁患者，适当给予小剂量安眠药或镇静剂，以保证其睡眠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E1CE-A0C6-480B-9F6F-AC971310E38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二）心理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心理护理的主要目的是使患者感觉良好，告诉他曾经的事，他会因为护士的存在而安静下来。这需要很多的交流技巧，患者的病情不断恶化，对待患者的技巧也不断变化，护士要善于了解老人的需要，要相互讨论，与医生讨论，找出最好的帮助患者的办法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9B3D-457E-42FF-87F6-D0571DB1570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（三）饮食护理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痴呆患者餐具要安全，不要用刀叉之类餐具，食物要软滑、简单方便，多吃水果、蔬菜，多食富含卵磷脂食物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主要有大豆、蛋黄、动物肝脏、鱼类、芝麻等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。每次吞咽后嘱患者反复做几次空咽运动，确保食物全部咽下，以防噎食及呛咳。进食时必须有人照看，以免呛入气管而窒息死亡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9E52-7057-4F8C-A0C3-25AD4F1755E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（四）安全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进食  餐具、光线、过烫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居住  宽敞、整洁、地面要防滑，床边有护栏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衣着  宽松、柔软、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行为  嘱患者不要单独外出，给患者口袋里放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一张安全卡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3A04-4113-4282-B9F6-3F3A1438DCD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33480" y="1846080"/>
            <a:ext cx="77421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年龄的增长是老年痴呆最危险的因素。而糖尿病、高脂血症、高血压、心脏病、抽烟、肥胖症等都与老年痴呆症的高风险有关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老年痴呆主要功能障碍包括记忆障碍、语言障碍、视空间技能障碍、失用和失认、判断和计算障碍、精神功能性精神障碍以及自理能力障碍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7F5D-F4DD-49A1-AF39-16402C6CB2D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33120" y="1846080"/>
            <a:ext cx="70959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评估  可从痴呆筛选量表、记忆力、注意力评定、老年痴呆的身体功能评估量表三大方面进行综合评定。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	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措施  老年痴呆患者的康复护理，一般围绕着记忆训练、注意力训练以及其他认知功能的训练等环节进行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指导  加强心理护理，鼓励患者生活自理，同时做好饮食护理，重点在于安全护理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7036-DBB7-440A-B2A3-F18FD3CBEAD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期痴呆是指发生在老年期（≥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6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）的一种获得性、持续性、全面性的智能损害综合征，即由器质性脑损害导致的不可逆的认知功能和社会生活能力降低。临床特征以慢性起病、大脑退行性改变、全面智能损害为特点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前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尚无满意的治疗方法。专家指出，老年痴呆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重在康复护理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  义</a:t>
            </a:r>
            <a:endParaRPr b="1" lang="en-US" sz="36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20F9-4CE8-428C-873A-69F20F1949F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07220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占老年人死亡的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位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每年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9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月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为“世界老年痴呆日”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美国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人中，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8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患老年性痴呆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年性痴呆患病率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我国老年人口中痴呆的患病率占总人口的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%~5%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53690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流行病学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858080" y="2143080"/>
            <a:ext cx="714600" cy="30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年轻化倾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EDB8-28AC-4333-9BC9-C606FB0C9E8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85480" y="185724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~8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老年人中好发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年龄增长是最危险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与遗传有关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糖尿病、高脂血症、高血压、心脏病、抽烟、肥胖症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环境和其他非基因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99680" y="57168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 因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5" name="线形标注 1 12"/>
          <p:cNvSpPr/>
          <p:nvPr/>
        </p:nvSpPr>
        <p:spPr>
          <a:xfrm>
            <a:off x="6040440" y="3851280"/>
            <a:ext cx="2347920" cy="857160"/>
          </a:xfrm>
          <a:prstGeom prst="borderCallout1">
            <a:avLst>
              <a:gd name="adj1" fmla="val 18750"/>
              <a:gd name="adj2" fmla="val -8333"/>
              <a:gd name="adj3" fmla="val -2740"/>
              <a:gd name="adj4" fmla="val -81694"/>
            </a:avLst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风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分 类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F7D3-3206-482C-BE37-A323B7BE8C8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28760" y="2286000"/>
            <a:ext cx="795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原发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A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V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继发性：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脑血管疾病、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毒、帕金森病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脑外伤后遗症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684360" y="116676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-7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刘某，男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78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岁， 一年前经常怀疑子女为了房产加害他，恐惧、多疑、失眠，在当地心理医院诊断为老年期精神障碍，服用奥氮平配合中药治疗，疗效尚可，之后间断服用奥氮平。一月前患者怀疑自己肺部长了肿瘤，反复去医院检查结果阴性，患者能认识到该想法是错误的但不能自我控制，恐惧、紧张、失眠、出汗、记忆力减退，服用奥氮平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0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毫克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/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日，疗效不明显，医生建议停用奥氮平改用氟哌啶醇控制行为和精神症。并增加促智药物。血生化、胸部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、心电图、胃镜检查均未见明显异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会出现哪些功能障碍？应怎样进行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2"/>
          <p:cNvSpPr/>
          <p:nvPr/>
        </p:nvSpPr>
        <p:spPr>
          <a:xfrm rot="21365400">
            <a:off x="6824160" y="3041280"/>
            <a:ext cx="1430640" cy="1114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3"/>
          <p:cNvSpPr/>
          <p:nvPr/>
        </p:nvSpPr>
        <p:spPr>
          <a:xfrm rot="15001200">
            <a:off x="5868000" y="4726440"/>
            <a:ext cx="995400" cy="17143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 rot="21402000">
            <a:off x="3308400" y="5823000"/>
            <a:ext cx="1272960" cy="8269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 rot="15138600">
            <a:off x="1236960" y="4264560"/>
            <a:ext cx="1352520" cy="8874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5716440" y="1857240"/>
            <a:ext cx="1881360" cy="92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 rot="21366000">
            <a:off x="3462480" y="1463400"/>
            <a:ext cx="1620720" cy="10303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 rot="17594400">
            <a:off x="1559520" y="2437200"/>
            <a:ext cx="1193760" cy="1071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3573360" y="3143160"/>
            <a:ext cx="1789200" cy="16430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994200" y="3502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功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357280" y="150012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714840" y="149868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精神功能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073920" y="1857240"/>
            <a:ext cx="13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视空间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 rot="265200">
            <a:off x="1733040" y="26064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 rot="177600">
            <a:off x="1655280" y="42357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 rot="20956200">
            <a:off x="7035840" y="312156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失用、失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 rot="20736600">
            <a:off x="5826960" y="510876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判断、计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3500280" y="6000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4356000" y="2565000"/>
            <a:ext cx="100080" cy="506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5364000" y="2781000"/>
            <a:ext cx="582840" cy="726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356080" y="4286160"/>
            <a:ext cx="513000" cy="871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 flipV="1">
            <a:off x="5435640" y="3718080"/>
            <a:ext cx="1297080" cy="6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4071600" y="4714920"/>
            <a:ext cx="142920" cy="1071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 flipH="1">
            <a:off x="2428560" y="4143240"/>
            <a:ext cx="857160" cy="357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 flipH="1" flipV="1">
            <a:off x="2787120" y="3143160"/>
            <a:ext cx="946440" cy="2923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45:56Z</dcterms:modified>
  <cp:revision>14</cp:revision>
  <dc:subject/>
  <dc:title>第一章 儿科疾病的护理</dc:title>
</cp:coreProperties>
</file>